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D3A-EE81-4D06-B921-D0A1398CBD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013-A6B3-4584-BBC2-C4F23098B613}" type="slidenum">
              <a:rPr b="0" lang="es-E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E72-A79D-4931-95DA-82B692745A7D}" type="slidenum">
              <a:rPr b="0" lang="es-E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23F-5C73-49EB-847B-E805CA8F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11-A608-4577-BFA3-94B1985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5FA-F7EE-4276-825B-F05903E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931-5BB1-4D86-B21F-8D03F40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934-6FAF-433A-95B3-C1F67B3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E67-CF70-4709-9692-F7FEC981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717-4DD0-48CB-BE6F-7C14030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CDD-2341-42C9-9015-DC295CC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D19-D29D-4A62-9755-3FB54A0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7C0-1B2E-43C8-A8EA-8E5F3CF0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E71-2560-49BD-98E3-9EB30B14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5A5-5A38-43A0-BA73-3DE7D6F4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8610480" y="1844640"/>
            <a:ext cx="533520" cy="1828800"/>
            <a:chOff x="8610480" y="1844640"/>
            <a:chExt cx="533520" cy="1828800"/>
          </a:xfrm>
        </p:grpSpPr>
        <p:pic>
          <p:nvPicPr>
            <p:cNvPr id="11" name="Picture 16" descr="j0315558"/>
            <p:cNvPicPr/>
            <p:nvPr/>
          </p:nvPicPr>
          <p:blipFill>
            <a:blip r:embed="rId4"/>
            <a:stretch/>
          </p:blipFill>
          <p:spPr>
            <a:xfrm rot="5400000">
              <a:off x="8609760" y="2493720"/>
              <a:ext cx="53784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7" descr="j0315568"/>
            <p:cNvPicPr/>
            <p:nvPr/>
          </p:nvPicPr>
          <p:blipFill>
            <a:blip r:embed="rId5"/>
            <a:stretch/>
          </p:blipFill>
          <p:spPr>
            <a:xfrm rot="5400000">
              <a:off x="8607960" y="1846800"/>
              <a:ext cx="538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8" descr="j0315584"/>
            <p:cNvPicPr/>
            <p:nvPr/>
          </p:nvPicPr>
          <p:blipFill>
            <a:blip r:embed="rId6"/>
            <a:stretch/>
          </p:blipFill>
          <p:spPr>
            <a:xfrm rot="5400000">
              <a:off x="8609760" y="3139200"/>
              <a:ext cx="537840" cy="530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3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7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2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3" name="Picture 19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0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1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D00-FD00-4185-8F44-5CB836F0153C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5162040"/>
            <a:ext cx="89820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e2947"/>
                </a:solidFill>
                <a:latin typeface="Arial"/>
              </a:rPr>
              <a:t>Fabián Domínguez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2947"/>
                </a:solidFill>
                <a:latin typeface="Arial"/>
              </a:rPr>
              <a:t>Setiembre - 2015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361800"/>
            <a:ext cx="89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ACTUALIDAD TRIBUTARIA NACIONAL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DE8-5D75-40C0-90D7-FE7EA7827201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2003 Y LA REFORMA FI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1640" y="234900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FINANZAS PÚBLICAS DEBILITADA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DEUDA EXTERNA ATRASA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CESACIÓN DE PAGO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RECAUDACIÓN TRIBUTARIA DEPRIMI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e2947"/>
                </a:solidFill>
                <a:latin typeface="Arial"/>
              </a:rPr>
              <a:t>LEY 2421/04 – LEY 2422/04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ULTIMAS REFORMAS…..CAUSAS Y CONSECU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92000" y="2033640"/>
            <a:ext cx="72453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2421/04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2422/04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4673/12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5061/13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63e6a"/>
                </a:solidFill>
                <a:latin typeface="Arial"/>
              </a:rPr>
              <a:t>EL IMPACTO EN LAS RECAUDACIONES……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RECAUDACIÓN DEL 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7640" y="6480"/>
            <a:ext cx="9380520" cy="72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PARTICIPACIÓN DE LOS PRINCIPALES IMPUESTOS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8 Gráfico" descr=""/>
          <p:cNvPicPr/>
          <p:nvPr/>
        </p:nvPicPr>
        <p:blipFill>
          <a:blip r:embed="rId1"/>
          <a:stretch/>
        </p:blipFill>
        <p:spPr>
          <a:xfrm>
            <a:off x="-50760" y="1173240"/>
            <a:ext cx="92455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85920" y="233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IVA DEL PARAGUAY EL MAS PRODUCTIVO Y EFICIENTE DE 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376280" y="1854360"/>
            <a:ext cx="590724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51" name="1 Rectángulo"/>
          <p:cNvSpPr/>
          <p:nvPr/>
        </p:nvSpPr>
        <p:spPr>
          <a:xfrm>
            <a:off x="1557360" y="458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400" spc="-1" strike="noStrike">
                <a:solidFill>
                  <a:srgbClr val="ffffff"/>
                </a:solidFill>
                <a:latin typeface="Arial"/>
              </a:rPr>
              <a:t>EL SISTEMA TRIBUTARIO MAS INJUS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1 Rectángulo"/>
          <p:cNvSpPr/>
          <p:nvPr/>
        </p:nvSpPr>
        <p:spPr>
          <a:xfrm>
            <a:off x="8037360" y="2708280"/>
            <a:ext cx="720720" cy="1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476280" y="2394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00"/>
                </a:solidFill>
                <a:latin typeface="Antique Olive Roman"/>
              </a:rPr>
              <a:t>QUE OCURRIRÁ A FUTURO….?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4" name="Imagen 1" descr="stock photo : Figuras del negocio y signo de interrogación"/>
          <p:cNvPicPr/>
          <p:nvPr/>
        </p:nvPicPr>
        <p:blipFill>
          <a:blip r:embed="rId1"/>
          <a:stretch/>
        </p:blipFill>
        <p:spPr>
          <a:xfrm>
            <a:off x="3311640" y="977760"/>
            <a:ext cx="2160360" cy="135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971640" y="3564000"/>
            <a:ext cx="2925720" cy="18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5337000" y="3559320"/>
            <a:ext cx="2419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MUCHAS GRACIAS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2120" y="1809720"/>
            <a:ext cx="7619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836640" y="1808280"/>
            <a:ext cx="75470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1d528d"/>
                </a:solidFill>
                <a:latin typeface="Arial"/>
              </a:rPr>
              <a:t>LOS ANTECEDENTES…</a:t>
            </a: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ANTECEDENTES DEL ST A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Un antes y un después de 1989 desde la perspectiva impositiva…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797360" y="319248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601640" y="319248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6640" y="3682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ANTECEDENTES INICIOS DE LOS 90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7920"/>
            <a:ext cx="52401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 EJERCICIO DE LA COMPETENCIA TRIBUTARI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LOS IMPUESTOS VIGENT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 MINISTERIO DE HACIEN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LAS FISCALIZACION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381640" y="167328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5832360" y="4203720"/>
            <a:ext cx="28465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EL APOYO TECNOLOGICO DE LA EPO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41280" y="1566720"/>
            <a:ext cx="3691080" cy="273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5292720" y="1860480"/>
            <a:ext cx="285264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2575080" y="4003560"/>
            <a:ext cx="30160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600" spc="-1" strike="noStrike">
                <a:solidFill>
                  <a:srgbClr val="ffffff"/>
                </a:solidFill>
                <a:latin typeface="Arial"/>
              </a:rPr>
              <a:t>LA REFORMA TRIBUT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1640" y="1942920"/>
            <a:ext cx="823608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APARICIÓN DE LA LEY 125/91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REFORMA DEL EJERCICIO DE LA COMPETENCIA TRIBUTARI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APARECE LA SET (LEY 109/91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IMPUESTOS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PROCEDIMIENTO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FORMULARIO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1993  SUCESIÓN PRESIDENCIAL  y SU IMPACTO EN EL 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6280" y="144936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INCREMENTO DE LAS RECAUDACIONES….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A MEDIADOS DEL GOBIERNO CRISIS FINANCIER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INTENTO DE GOLPE DE ESTADO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CONSECUENCIAS EN LA ECONOMIA PUBLICA Y EL S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16280" y="3144960"/>
            <a:ext cx="3916440" cy="293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522360" y="3564000"/>
            <a:ext cx="35337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ffffff"/>
                </a:solidFill>
                <a:latin typeface="Arial"/>
              </a:rPr>
              <a:t>1998 nuevo gobie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Antecedentes (condena del candidato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Conformación de dupla presidencia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eccion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Marzo Pyo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Juicio político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273400" y="4824360"/>
            <a:ext cx="4368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1:22:39Z</dcterms:created>
  <dc:creator>Silvia Martinez Mendez</dc:creator>
  <dc:description/>
  <dc:language>en-US</dc:language>
  <cp:lastModifiedBy>DELL</cp:lastModifiedBy>
  <cp:lastPrinted>2002-10-25T17:12:49Z</cp:lastPrinted>
  <dcterms:modified xsi:type="dcterms:W3CDTF">2015-09-08T14:21:41Z</dcterms:modified>
  <cp:revision>268</cp:revision>
  <dc:subject/>
  <dc:title>Legislación Mercantil y Fiscal</dc:title>
</cp:coreProperties>
</file>