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.wmf" ContentType="image/x-wmf"/>
  <Override PartName="/ppt/media/image24.wmf" ContentType="image/x-wmf"/>
  <Override PartName="/ppt/media/image23.jpeg" ContentType="image/jpeg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21F9-5E9B-433B-BAE5-4EAABA002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9E2F-1D9B-4D12-8925-B134E3CC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F633-5A43-4E2D-9986-EB8EA3316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206B-65F7-4506-A60A-0DF724E1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14BF-63B0-4F30-97C0-6FC25029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7A81-208C-44F5-915A-EF112456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3B97-7A5E-4BBB-8F7E-F6B947D9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23CC-8D13-4D3E-AC20-CF9F7EC9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931E-D9E9-4BFA-8CFC-CEB4BA62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C615-F531-4D35-B769-9A2073A7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5DED-2CFF-410A-935E-3F515196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83A6-A615-4F0A-9644-8572CDA5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6355-0F9C-4957-B58A-B31AC133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75BC-319F-4432-AB83-216C8A5C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1071-F74E-4FBE-AB16-B6E7CDA5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6138-7585-41F2-B3AF-0834598D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2788-A969-49A1-B118-7AAED3C11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509C0-EB54-44A4-A97A-FF335D47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B75C4-F4EB-40FD-AEE0-2FF79AA5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E263C-B88F-4800-8B9B-2B5073C3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2CA1F-4927-4B4F-8634-2F9C4022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238F6-D1DB-49EF-896B-0876430F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E466-C399-494F-AEE2-003EA1A7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E9B3D-ADD6-4AFB-A210-9E933E90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3B230-C327-43F0-93C5-453639D9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9B094-8CAF-4D97-BE18-999DB07A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8A90B-E67E-4D8E-AC7E-BDE6841F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EB87B-0DE8-4363-95EF-6F9B6FC2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58288-16D1-44EE-9090-655526C4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41A2D-B80D-4490-B965-A59F4BA28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E5A4F-2503-47EC-B6EA-8BF5994C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C2B3D-6D35-40D6-8372-6B30D685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40234-C794-4015-942A-16AAEDCA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9BBF-99D3-44EB-BBE3-2FE60333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E6C65-0C05-40E8-947B-1F7E45DE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1C9F2-841F-44F7-BACC-58330B9B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A2BF0-8FF8-493E-AEF4-8EF96AF2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17B37-939E-440D-B895-514F5D33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A044E-FF39-44BB-9F6E-6BE4079A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47929-4B2A-4DBF-90AF-B8751DCA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5F010-8777-453F-91BC-02D4BCBC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68F18-B85C-4760-9918-2A3BF57E4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470B8-8B3F-42F1-A3B5-19CEC3F7E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0BEF0-3864-4A4A-8FD5-D3454678E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F9AD-13D5-4528-8CC4-4169D923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7FCFB-65BE-47C0-B55B-AD288C7A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DF824-5BC6-4904-8F6E-CE21DC3C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0423A-24B8-4277-BCD1-FB3477CE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3E665-B9D3-48AD-B6DF-1ECC63D7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B6E9B-5858-4E4B-A7B5-40D51EA7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131B8-5056-40FB-81F1-99657346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1DE7A-E2FD-4450-998A-6ADD135F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5E047-1DBE-437F-AA0B-F0FC1D8C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986A3-3793-4905-95A8-0C20150A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4C4FC-66B5-423B-ABC6-093FEE4A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3A4E-24A4-4D83-8A81-32660920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DF178-B903-4332-902C-982DE6D1B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8DA0-8B74-4982-846B-00B107C4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7025-D5AD-4EF1-93F8-CC85A042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606A-093A-4E11-8F76-899D8D6E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8C6F-7AA3-4971-A160-CACF98E067B6}" type="slidenum">
              <a:rPr b="0" lang="es-ES_tradn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 redondeado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2 Rectángulo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14 Rectángulo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C575-64FC-45A5-A209-FAC4E37CA0FD}" type="slidenum">
              <a:rPr b="0" lang="es-ES_tradn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0 Rectángulo redondeado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10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11 Rectángulo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2 Rectángulo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14 Rectángulo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FCC7-E71C-4CC2-A868-388B9F54DF3A}" type="slidenum">
              <a:rPr b="0" lang="es-ES_tradn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10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F4E9-7AA9-4CD6-9C16-40BA191D512E}" type="slidenum">
              <a:rPr b="0" lang="es-ES_tradn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9 Rectángulo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10 Rectángulo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11 Rectángulo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DBC7-20F4-4CAA-B1B7-830389372F05}" type="slidenum">
              <a:rPr b="0" lang="es-ES_tradn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360" y="3933360"/>
            <a:ext cx="7843680" cy="114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696464"/>
                </a:solidFill>
                <a:latin typeface="Perpetua"/>
                <a:ea typeface="바탕"/>
              </a:rPr>
              <a:t>RESILIENCIA Y VALOR ORGANIZACIONAL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rcRect l="0" t="0" r="0" b="43591"/>
          <a:stretch/>
        </p:blipFill>
        <p:spPr>
          <a:xfrm>
            <a:off x="684360" y="333360"/>
            <a:ext cx="7848360" cy="3600360"/>
          </a:xfrm>
          <a:prstGeom prst="rect">
            <a:avLst/>
          </a:prstGeom>
          <a:ln w="0">
            <a:noFill/>
          </a:ln>
        </p:spPr>
      </p:pic>
      <p:sp>
        <p:nvSpPr>
          <p:cNvPr id="230" name="1 Título"/>
          <p:cNvSpPr/>
          <p:nvPr/>
        </p:nvSpPr>
        <p:spPr>
          <a:xfrm>
            <a:off x="684360" y="5084640"/>
            <a:ext cx="78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696464"/>
                </a:solidFill>
                <a:latin typeface="Perpetua"/>
                <a:ea typeface="바탕"/>
              </a:rPr>
              <a:t>Gustavo Tap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96464"/>
                </a:solidFill>
                <a:latin typeface="Perpetua"/>
              </a:rPr>
              <a:t>Resiliencia y Crisis:</a:t>
            </a:r>
            <a:br>
              <a:rPr sz="2800"/>
            </a:br>
            <a:r>
              <a:rPr b="0" lang="es-AR" sz="2800" spc="-1" strike="noStrike">
                <a:solidFill>
                  <a:srgbClr val="696464"/>
                </a:solidFill>
                <a:latin typeface="Perpetua"/>
              </a:rPr>
              <a:t>Tópicos vinculados al valor organizacional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6" name="4 Marcador de número de diapositiva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2E06-82EE-4FE1-8A5E-431A259CDF48}" type="slidenum">
              <a:rPr b="0" lang="es-ES_tradn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914400" y="1628640"/>
            <a:ext cx="71866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696464"/>
                </a:solidFill>
                <a:latin typeface="Perpetua"/>
              </a:rPr>
              <a:t>Capacidad de adaptación y transformación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d34817"/>
                </a:solidFill>
                <a:latin typeface="Perpetua"/>
              </a:rPr>
              <a:t>Resiliencia en la Organizació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88000" y="1447920"/>
            <a:ext cx="38988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d34817"/>
                </a:solidFill>
                <a:latin typeface="Perpetua"/>
              </a:rPr>
              <a:t>Acciones para alcanzar los fin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6 Marcador de número de diapositiva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A242-D17E-4C65-B3F9-17CF4A2B0CE4}" type="slidenum">
              <a:rPr b="0" lang="es-ES_tradn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4094280" cy="3095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>
            <a:off x="4975200" y="2604960"/>
            <a:ext cx="368928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696464"/>
                </a:solidFill>
                <a:latin typeface="Perpetua"/>
                <a:ea typeface="Arial"/>
              </a:rPr>
              <a:t>Salud organizacional financiera de Pymes en contexto argentino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4000" y="1447920"/>
            <a:ext cx="8002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Perpetua"/>
              </a:rPr>
              <a:t>POSICIÓN DE PERMANENCIA CON &lt; RIESG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Perpetua"/>
              </a:rPr>
              <a:t>Bajo apalancamiento financiero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Perpetua"/>
              </a:rPr>
              <a:t>Escasa exposición de deuda a corto plazo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Perpetua"/>
              </a:rPr>
              <a:t>Bajo apalancamiento operativo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Perpetua"/>
              </a:rPr>
              <a:t>Posición de liquidez holgada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Perpetua"/>
              </a:rPr>
              <a:t>Acceso a fuentes de financiamiento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Perpetua"/>
              </a:rPr>
              <a:t>Poca rotación del capital de trabajo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6" name="3 Marcador de número de diapositiva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A339-9FAE-41E1-8FF7-62277FC94F1F}" type="slidenum">
              <a:rPr b="0" lang="es-ES_tradn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696464"/>
                </a:solidFill>
                <a:latin typeface="Perpetua"/>
              </a:rPr>
              <a:t>Preocupaciones sector Pyme y textil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17996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d34817"/>
                </a:solidFill>
                <a:latin typeface="Perpetua"/>
              </a:rPr>
              <a:t>Pymes y Sector Texti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952880" y="1483920"/>
            <a:ext cx="3733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d34817"/>
                </a:solidFill>
                <a:latin typeface="Perpetua"/>
              </a:rPr>
              <a:t>Factores críticos industrial texti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Aumento costos materias primas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Aumento costos mano de obra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Disminución de rentabilidad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Dificultades acceso financiamiento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Caída en ventas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Imprevisibilidad en mediano plazo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Escasez mano obra calificada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    …………………………………</a:t>
            </a: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Competencia externa desleal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95288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Disponibilidad materia prima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Formalización y calificación MO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Ampliación de capacidad productiva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Política gubernamental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Competitividad sectorial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    …………………………………</a:t>
            </a: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Análisis de cadena productiva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Historia y principales hitos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6 Marcador de número de diapositiva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56EA-FECD-45CA-A481-E37C4AD77E0C}" type="slidenum">
              <a:rPr b="0" lang="es-ES_tradn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696464"/>
                </a:solidFill>
                <a:latin typeface="Franklin Gothic Book"/>
              </a:rPr>
              <a:t>Competitividad sectorial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244800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d34817"/>
                </a:solidFill>
                <a:latin typeface="Franklin Gothic Book"/>
              </a:rPr>
              <a:t>Estrategia inversió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51280" y="620280"/>
            <a:ext cx="3733920" cy="4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d34817"/>
                </a:solidFill>
                <a:latin typeface="Franklin Gothic Book"/>
              </a:rPr>
              <a:t>Factores crítico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24000" y="1052280"/>
            <a:ext cx="43243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Sustitución importaciones. 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Industrialización y empleo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Asociatividad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Instrumentos inversión y financiación adecuados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Tecnología disponible / Diversificación productos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    …………………………</a:t>
            </a: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Asimetría de información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Selección adversa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995280" y="1052640"/>
            <a:ext cx="4824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Distribución de renta en cadena de valor equilibrada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Capacitación RRHH // Impulso a C y T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Shoppings y bancos vs Adm. comercial 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Extensión del crédito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Formalización trabajo de confección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  …………………………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Tipo de cambio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Presión fiscal 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8" name="7 Imagen" descr=""/>
          <p:cNvPicPr/>
          <p:nvPr/>
        </p:nvPicPr>
        <p:blipFill>
          <a:blip r:embed="rId1"/>
          <a:stretch/>
        </p:blipFill>
        <p:spPr>
          <a:xfrm>
            <a:off x="3276720" y="3357720"/>
            <a:ext cx="4967280" cy="3240000"/>
          </a:xfrm>
          <a:prstGeom prst="rect">
            <a:avLst/>
          </a:prstGeom>
          <a:ln w="0">
            <a:noFill/>
          </a:ln>
        </p:spPr>
      </p:pic>
      <p:sp>
        <p:nvSpPr>
          <p:cNvPr id="299" name="7 Marcador de número de diapositiva"/>
          <p:cNvSpPr/>
          <p:nvPr/>
        </p:nvSpPr>
        <p:spPr>
          <a:xfrm>
            <a:off x="850752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BA11-CA59-4A46-A90B-76668AF386CD}" type="slidenum">
              <a:rPr b="0" lang="es-ES_tradn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696464"/>
                </a:solidFill>
                <a:latin typeface="Franklin Gothic Book"/>
              </a:rPr>
              <a:t>Opiniones de empresario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Perpetua"/>
              </a:rPr>
              <a:t>E1: </a:t>
            </a:r>
            <a:r>
              <a:rPr b="0" i="1" lang="es-ES" sz="1600" spc="-1" strike="noStrike">
                <a:solidFill>
                  <a:srgbClr val="000000"/>
                </a:solidFill>
                <a:latin typeface="Perpetua"/>
              </a:rPr>
              <a:t>…“se comienza a exportar con un nuevo diseño de productos a Brasil y Europa, al alcanzar mayor competitividad comparable con otros países como México, Brasil, España, USA, UK, etc., y sin embargo, no hay una gran política de financiamiento en el comercio exterior por parte de los bancos”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Perpetua"/>
              </a:rPr>
              <a:t>E2: </a:t>
            </a:r>
            <a:r>
              <a:rPr b="0" i="1" lang="es-ES" sz="1600" spc="-1" strike="noStrike">
                <a:solidFill>
                  <a:srgbClr val="000000"/>
                </a:solidFill>
                <a:latin typeface="Perpetua"/>
              </a:rPr>
              <a:t>“se repiensa en la producción de lanas exóticas que no se explotan en la Argentina y que tienen un alto precio (llama, vicuña, cabra, guanaco); el avance en estos proyectos será soportado financieramente con capital propio….”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Perpetua"/>
              </a:rPr>
              <a:t>E3: </a:t>
            </a:r>
            <a:r>
              <a:rPr b="0" i="1" lang="es-ES" sz="1600" spc="-1" strike="noStrike">
                <a:solidFill>
                  <a:srgbClr val="000000"/>
                </a:solidFill>
                <a:latin typeface="Perpetua"/>
              </a:rPr>
              <a:t>“durante los últimos siete años se ha reinvertido las utilidades para poder contar con tecnología de punta. Se soportan más riesgos porque falta aceitar las políticas financieras con las productivas….”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Perpetua"/>
              </a:rPr>
              <a:t>E4: </a:t>
            </a:r>
            <a:r>
              <a:rPr b="0" i="1" lang="es-ES" sz="1600" spc="-1" strike="noStrike">
                <a:solidFill>
                  <a:srgbClr val="000000"/>
                </a:solidFill>
                <a:latin typeface="Perpetua"/>
              </a:rPr>
              <a:t>“es positivo instruir a los empresarios del sector para que soliciten a los bancos la calificación de sus empresas y expliquen en cada caso el camino recorrido en la última década en lo que refiere a inversión en equipamiento y aumento del mercado….”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2" name="3 Marcador de número de diapositiva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0F06-DAA3-4A5C-AD36-8FB9EB455926}" type="slidenum">
              <a:rPr b="0" lang="es-ES_tradn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696464"/>
                </a:solidFill>
                <a:latin typeface="Franklin Gothic Book"/>
              </a:rPr>
              <a:t>Análisis vertical y horizontal de las muestras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95280" y="4941720"/>
            <a:ext cx="3733920" cy="43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Franklin Gothic Book"/>
              </a:rPr>
              <a:t>DETERMINACIÓN DEL GRADO DE RESILIENCIA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17360" y="1052640"/>
            <a:ext cx="373392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Perpetua"/>
              </a:rPr>
              <a:t>ANÁLISIS DE VARIABLES POR AÑO E IMPACTO EN: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Inversiones en infraestructura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Financiamiento y aplicación de créditos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Dotación mano de obra y perspectivas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Capital de trabajo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Intangibles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862440" y="1052280"/>
            <a:ext cx="373392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Perpetua"/>
              </a:rPr>
              <a:t>EVOLUCIÓN EMPRESAS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Recuperación, oportunidad y posicionamiento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Correlaciones con fines perseguidos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Incidencia por actividad de la cadena productiva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7" name="7 Flecha derecha"/>
          <p:cNvSpPr/>
          <p:nvPr/>
        </p:nvSpPr>
        <p:spPr>
          <a:xfrm rot="4165800">
            <a:off x="1888560" y="2779560"/>
            <a:ext cx="444240" cy="4222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00b0f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8 Flecha derecha"/>
          <p:cNvSpPr/>
          <p:nvPr/>
        </p:nvSpPr>
        <p:spPr>
          <a:xfrm rot="6803400">
            <a:off x="3345480" y="2676960"/>
            <a:ext cx="536400" cy="442800"/>
          </a:xfrm>
          <a:prstGeom prst="rightArrow">
            <a:avLst>
              <a:gd name="adj1" fmla="val 50000"/>
              <a:gd name="adj2" fmla="val 53962"/>
            </a:avLst>
          </a:prstGeom>
          <a:solidFill>
            <a:srgbClr val="00b0f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9 Rectángulo"/>
          <p:cNvSpPr/>
          <p:nvPr/>
        </p:nvSpPr>
        <p:spPr>
          <a:xfrm>
            <a:off x="1474920" y="3284640"/>
            <a:ext cx="2449440" cy="86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RENTABILIDAD  MERCA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CAPACIDAD PRODUC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5 Flecha a la derecha con bandas"/>
          <p:cNvSpPr/>
          <p:nvPr/>
        </p:nvSpPr>
        <p:spPr>
          <a:xfrm rot="5400000">
            <a:off x="1348200" y="4274280"/>
            <a:ext cx="505080" cy="684360"/>
          </a:xfrm>
          <a:custGeom>
            <a:avLst/>
            <a:gdLst>
              <a:gd name="textAreaLeft" fmla="*/ 78840 w 505080"/>
              <a:gd name="textAreaRight" fmla="*/ 379080 w 505080"/>
              <a:gd name="textAreaTop" fmla="*/ 171000 h 684360"/>
              <a:gd name="textAreaBottom" fmla="*/ 513360 h 684360"/>
            </a:gdLst>
            <a:ahLst/>
            <a:rect l="textAreaLeft" t="textAreaTop" r="textAreaRight" b="textAreaBottom"/>
            <a:pathLst>
              <a:path w="504825" h="684212">
                <a:moveTo>
                  <a:pt x="0" y="171053"/>
                </a:moveTo>
                <a:lnTo>
                  <a:pt x="15776" y="171053"/>
                </a:lnTo>
                <a:lnTo>
                  <a:pt x="15776" y="513159"/>
                </a:lnTo>
                <a:lnTo>
                  <a:pt x="0" y="513159"/>
                </a:lnTo>
                <a:close/>
                <a:moveTo>
                  <a:pt x="31552" y="171053"/>
                </a:moveTo>
                <a:lnTo>
                  <a:pt x="63103" y="171053"/>
                </a:lnTo>
                <a:lnTo>
                  <a:pt x="63103" y="513159"/>
                </a:lnTo>
                <a:lnTo>
                  <a:pt x="31552" y="513159"/>
                </a:lnTo>
                <a:close/>
                <a:moveTo>
                  <a:pt x="78879" y="171053"/>
                </a:moveTo>
                <a:lnTo>
                  <a:pt x="252413" y="171053"/>
                </a:lnTo>
                <a:lnTo>
                  <a:pt x="252413" y="0"/>
                </a:lnTo>
                <a:lnTo>
                  <a:pt x="504825" y="342106"/>
                </a:lnTo>
                <a:lnTo>
                  <a:pt x="252413" y="684212"/>
                </a:lnTo>
                <a:lnTo>
                  <a:pt x="252413" y="513159"/>
                </a:lnTo>
                <a:lnTo>
                  <a:pt x="78879" y="513159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4067280" y="3286080"/>
            <a:ext cx="2233440" cy="28069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" descr=""/>
          <p:cNvPicPr/>
          <p:nvPr/>
        </p:nvPicPr>
        <p:blipFill>
          <a:blip r:embed="rId2"/>
          <a:srcRect l="0" t="15628" r="0" b="0"/>
          <a:stretch/>
        </p:blipFill>
        <p:spPr>
          <a:xfrm>
            <a:off x="6372360" y="3284640"/>
            <a:ext cx="2314440" cy="2808360"/>
          </a:xfrm>
          <a:prstGeom prst="rect">
            <a:avLst/>
          </a:prstGeom>
          <a:ln w="0">
            <a:noFill/>
          </a:ln>
        </p:spPr>
      </p:pic>
      <p:sp>
        <p:nvSpPr>
          <p:cNvPr id="313" name="12 Rectángulo"/>
          <p:cNvSpPr/>
          <p:nvPr/>
        </p:nvSpPr>
        <p:spPr>
          <a:xfrm>
            <a:off x="4427640" y="2852640"/>
            <a:ext cx="1657080" cy="289080"/>
          </a:xfrm>
          <a:prstGeom prst="rect">
            <a:avLst/>
          </a:prstGeom>
          <a:solidFill>
            <a:srgbClr val="f2f2f2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Perpetua"/>
              </a:rPr>
              <a:t>Rentabilidad y resilie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13 Rectángulo"/>
          <p:cNvSpPr/>
          <p:nvPr/>
        </p:nvSpPr>
        <p:spPr>
          <a:xfrm>
            <a:off x="6588000" y="2852640"/>
            <a:ext cx="1656000" cy="289080"/>
          </a:xfrm>
          <a:prstGeom prst="rect">
            <a:avLst/>
          </a:prstGeom>
          <a:solidFill>
            <a:srgbClr val="f2f2f2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Perpetua"/>
              </a:rPr>
              <a:t>Mercado: evolución y perspectiv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14 Marcador de número de diapositiva"/>
          <p:cNvSpPr/>
          <p:nvPr/>
        </p:nvSpPr>
        <p:spPr>
          <a:xfrm>
            <a:off x="853272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4AA7-3843-4384-BCBF-5F366D8478CF}" type="slidenum">
              <a:rPr b="0" lang="es-ES_tradn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4360" y="326520"/>
            <a:ext cx="7772400" cy="654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696464"/>
                </a:solidFill>
                <a:latin typeface="Franklin Gothic Book"/>
              </a:rPr>
              <a:t>Predisposición para decidir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657360" y="1268280"/>
            <a:ext cx="7659720" cy="5124600"/>
          </a:xfrm>
          <a:prstGeom prst="rect">
            <a:avLst/>
          </a:prstGeom>
          <a:ln w="0">
            <a:noFill/>
          </a:ln>
        </p:spPr>
      </p:pic>
      <p:sp>
        <p:nvSpPr>
          <p:cNvPr id="318" name="3 Marcador de número de diapositiva"/>
          <p:cNvSpPr/>
          <p:nvPr/>
        </p:nvSpPr>
        <p:spPr>
          <a:xfrm>
            <a:off x="850752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05DA-A4B8-4F7C-BAD3-D3FEBFEF09DA}" type="slidenum">
              <a:rPr b="0" lang="es-ES_tradn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696464"/>
                </a:solidFill>
                <a:latin typeface="Franklin Gothic Book"/>
              </a:rPr>
              <a:t>Niveles de resiliencia. Escala y empresas textiles 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9280" y="836280"/>
            <a:ext cx="41086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Perpetua"/>
              </a:rPr>
              <a:t>Resiliencia estricta</a:t>
            </a:r>
            <a:r>
              <a:rPr b="0" lang="es-AR" sz="1600" spc="-1" strike="noStrike">
                <a:solidFill>
                  <a:srgbClr val="000000"/>
                </a:solidFill>
                <a:latin typeface="Perpetua"/>
              </a:rPr>
              <a:t> (RE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Perpetua"/>
              </a:rPr>
              <a:t>Mercado en crecimiento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Perpetua"/>
              </a:rPr>
              <a:t>Rentabilidad positiva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Perpetua"/>
              </a:rPr>
              <a:t>Capacidad de producción &gt; a 50%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Perpetua"/>
              </a:rPr>
              <a:t>Presentó información al menos en últimos dos períodos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Perpetua"/>
              </a:rPr>
              <a:t>Resiliencia relajada</a:t>
            </a:r>
            <a:r>
              <a:rPr b="0" lang="es-AR" sz="1600" spc="-1" strike="noStrike">
                <a:solidFill>
                  <a:srgbClr val="000000"/>
                </a:solidFill>
                <a:latin typeface="Perpetua"/>
              </a:rPr>
              <a:t> (RR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Perpetua"/>
              </a:rPr>
              <a:t>Mercado en crecimiento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Perpetua"/>
              </a:rPr>
              <a:t>Rentabilidad no negativa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Perpetua"/>
              </a:rPr>
              <a:t>Capacidad de producción = o &gt; a 50%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Perpetua"/>
              </a:rPr>
              <a:t>Presentó información al menos en últimos dos período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Perpetua"/>
              </a:rPr>
              <a:t>Resiliencia latente </a:t>
            </a:r>
            <a:r>
              <a:rPr b="0" lang="es-ES" sz="1600" spc="-1" strike="noStrike">
                <a:solidFill>
                  <a:srgbClr val="000000"/>
                </a:solidFill>
                <a:latin typeface="Perpetua"/>
              </a:rPr>
              <a:t>(RL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Perpetua"/>
              </a:rPr>
              <a:t>Mercado con o sin crecimiento, rentabilidad no negativa, capacidad de producción = o &gt; a 50%. Presentó info al menos en últimos dos períodos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Perpetua"/>
              </a:rPr>
              <a:t>……………………………………………</a:t>
            </a:r>
            <a:r>
              <a:rPr b="0" lang="es-AR" sz="1600" spc="-1" strike="noStrike">
                <a:solidFill>
                  <a:srgbClr val="000000"/>
                </a:solidFill>
                <a:latin typeface="Perpetua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Perpetua"/>
              </a:rPr>
              <a:t>No resilientes </a:t>
            </a:r>
            <a:r>
              <a:rPr b="0" lang="es-ES" sz="1600" spc="-1" strike="noStrike">
                <a:solidFill>
                  <a:srgbClr val="000000"/>
                </a:solidFill>
                <a:latin typeface="Perpetua"/>
              </a:rPr>
              <a:t>(NR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Perpetua"/>
              </a:rPr>
              <a:t>Mercado con o sin crecimiento, rentabilidad negativa, capacidad de producción igual o mayor al 50%. Presentó info al menos en últimos dos período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787640" y="836640"/>
            <a:ext cx="37335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Perpetua"/>
              </a:rPr>
              <a:t>No resilientes fuerte </a:t>
            </a:r>
            <a:r>
              <a:rPr b="0" lang="es-ES" sz="1600" spc="-1" strike="noStrike">
                <a:solidFill>
                  <a:srgbClr val="000000"/>
                </a:solidFill>
                <a:latin typeface="Perpetua"/>
              </a:rPr>
              <a:t>(NRF):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Perpetua"/>
              </a:rPr>
              <a:t>Capacidad de producción &lt; al 50%. Presentó info al menos en últimos dos períodos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Perpetua"/>
              </a:rPr>
              <a:t>No resilientes sin datos </a:t>
            </a:r>
            <a:r>
              <a:rPr b="0" lang="es-ES" sz="1600" spc="-1" strike="noStrike">
                <a:solidFill>
                  <a:srgbClr val="000000"/>
                </a:solidFill>
                <a:latin typeface="Perpetua"/>
              </a:rPr>
              <a:t>(NRSD):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Perpetua"/>
              </a:rPr>
              <a:t>No presentó información en la mayoría de años o en los últimos dos años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22" name="Picture 7" descr=""/>
          <p:cNvPicPr/>
          <p:nvPr/>
        </p:nvPicPr>
        <p:blipFill>
          <a:blip r:embed="rId1"/>
          <a:srcRect l="0" t="0" r="11482" b="16668"/>
          <a:stretch/>
        </p:blipFill>
        <p:spPr>
          <a:xfrm>
            <a:off x="5057640" y="2997360"/>
            <a:ext cx="3330720" cy="3240000"/>
          </a:xfrm>
          <a:prstGeom prst="rect">
            <a:avLst/>
          </a:prstGeom>
          <a:ln w="0">
            <a:noFill/>
          </a:ln>
        </p:spPr>
      </p:pic>
      <p:sp>
        <p:nvSpPr>
          <p:cNvPr id="323" name="5 Marcador de número de diapositiva"/>
          <p:cNvSpPr/>
          <p:nvPr/>
        </p:nvSpPr>
        <p:spPr>
          <a:xfrm>
            <a:off x="843588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B235-98C7-4748-98FD-965272E7ECAA}" type="slidenum">
              <a:rPr b="0" lang="es-ES_tradn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696464"/>
                </a:solidFill>
                <a:latin typeface="Franklin Gothic Book"/>
              </a:rPr>
              <a:t>Resultados de resiliencia de la muestra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d34817"/>
                </a:solidFill>
                <a:latin typeface="Franklin Gothic Book"/>
              </a:rPr>
              <a:t>Nivel de resiliencia de empresas textile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d34817"/>
                </a:solidFill>
                <a:latin typeface="Franklin Gothic Book"/>
              </a:rPr>
              <a:t>Nivel resiliencia por actividad cadena productiva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1"/>
          <a:stretch/>
        </p:blipFill>
        <p:spPr>
          <a:xfrm>
            <a:off x="914400" y="2565360"/>
            <a:ext cx="3733920" cy="3456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"/>
          <p:cNvPicPr/>
          <p:nvPr/>
        </p:nvPicPr>
        <p:blipFill>
          <a:blip r:embed="rId2"/>
          <a:stretch/>
        </p:blipFill>
        <p:spPr>
          <a:xfrm>
            <a:off x="5003640" y="2492280"/>
            <a:ext cx="3733920" cy="3529080"/>
          </a:xfrm>
          <a:prstGeom prst="rect">
            <a:avLst/>
          </a:prstGeom>
          <a:ln w="0">
            <a:noFill/>
          </a:ln>
        </p:spPr>
      </p:pic>
      <p:sp>
        <p:nvSpPr>
          <p:cNvPr id="329" name="6 Marcador de número de diapositiva"/>
          <p:cNvSpPr/>
          <p:nvPr/>
        </p:nvSpPr>
        <p:spPr>
          <a:xfrm>
            <a:off x="853272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0403-6ABD-4DBC-BD2A-6D3774937522}" type="slidenum">
              <a:rPr b="0" lang="es-ES_tradn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18576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696464"/>
                </a:solidFill>
                <a:latin typeface="Perpetua"/>
              </a:rPr>
              <a:t>FINALIDAD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95280" y="1125000"/>
            <a:ext cx="7848720" cy="537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Perpetua"/>
              </a:rPr>
              <a:t>Determinar la existencia de resiliencia en una organización y su correlación con el valor de la misma, considerando tanto los factores de orden primario como los incidentales según el contexto de aplicación.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Perpetua"/>
              </a:rPr>
              <a:t>Además: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Perpetua"/>
              </a:rPr>
              <a:t>1.-Fijar un procedimiento para realizar las mediciones y permitir evaluar los resultados emergentes del mismo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Perpetua"/>
              </a:rPr>
              <a:t>2.- Elaborar un modelo económico – financiero que especifique los elementos presentes en la relación resiliencia – valor organizacional habiendo esas organizaciones transitado situaciones de crisis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Perpetua"/>
              </a:rPr>
              <a:t>3.- Explicar a partir del análisis de la correlación resiliencia – valor organizacional cambios de dirección en las decisiones de inversión y de financiamiento. 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Perpetua"/>
              </a:rPr>
              <a:t>H1: Las organizaciones resilientes tienen menor riesgo por lo que su valor 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Perpetua"/>
              </a:rPr>
              <a:t>       </a:t>
            </a:r>
            <a:r>
              <a:rPr b="0" lang="es-AR" sz="1600" spc="-1" strike="noStrike">
                <a:solidFill>
                  <a:srgbClr val="000000"/>
                </a:solidFill>
                <a:latin typeface="Perpetua"/>
              </a:rPr>
              <a:t>económico es superior respecto de otras organizaciones no resilientes.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Perpetua"/>
              </a:rPr>
              <a:t>H2: A mayor resiliencia mayor valor económico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3" name="3 Marcador de número de diapositiva"/>
          <p:cNvSpPr/>
          <p:nvPr/>
        </p:nvSpPr>
        <p:spPr>
          <a:xfrm>
            <a:off x="850752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765A-BDE6-447D-A40C-0928162DD803}" type="slidenum">
              <a:rPr b="0" lang="es-ES_tradn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696464"/>
                </a:solidFill>
                <a:latin typeface="Franklin Gothic Book"/>
              </a:rPr>
              <a:t>Correlaciones 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914400" y="1773360"/>
            <a:ext cx="3733920" cy="35924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"/>
          <p:cNvPicPr/>
          <p:nvPr/>
        </p:nvPicPr>
        <p:blipFill>
          <a:blip r:embed="rId2"/>
          <a:stretch/>
        </p:blipFill>
        <p:spPr>
          <a:xfrm>
            <a:off x="4952880" y="1773360"/>
            <a:ext cx="3733920" cy="3551040"/>
          </a:xfrm>
          <a:prstGeom prst="rect">
            <a:avLst/>
          </a:prstGeom>
          <a:ln w="0">
            <a:noFill/>
          </a:ln>
        </p:spPr>
      </p:pic>
      <p:sp>
        <p:nvSpPr>
          <p:cNvPr id="333" name="4 Marcador de número de diapositiva"/>
          <p:cNvSpPr/>
          <p:nvPr/>
        </p:nvSpPr>
        <p:spPr>
          <a:xfrm>
            <a:off x="850752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72BF-B1F4-4410-8690-E72D509BA935}" type="slidenum">
              <a:rPr b="0" lang="es-ES_tradn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7772400" cy="436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696464"/>
                </a:solidFill>
                <a:latin typeface="Franklin Gothic Book"/>
              </a:rPr>
              <a:t>Conclusione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24000" y="1052640"/>
            <a:ext cx="4248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Perpetua"/>
              </a:rPr>
              <a:t>Sobre el OBJETIVO GENERAL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Se ha verificado la existencia de resiliencia en una organización y la correlación con el valor de la misma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Perpetua"/>
              </a:rPr>
              <a:t>Sobre los OBJETIVOS ESPECÍFICO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Se ha fijado un procedimiento para realizar mediciones y evaluar resultados emergentes de manera convincente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Se ha formulado un modelo económico – financiero especificando los factores principales en la relación resiliencia – valor organizacional y habiendo esas organizaciones atravesado situaciones adversas o crisis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Es posible explicar a partir del análisis correlacional R – VO, cambios en las decisiones de inversión y financiamiento (particularmente en interesados directos: accionistas, dueños, directores, proveedores de insumos, personal, clientes y gobierno. No se ha verificado incidencia en entidades bancarias, compañías de seguro e inversores institucionales)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642920" y="1125000"/>
            <a:ext cx="40402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 algn="just"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Perpetua"/>
              </a:rPr>
              <a:t>Se estima con mejor precisión los niveles de riesgo con un análisis contextual que incorpora la cadena productiva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399960" indent="-399960" algn="just"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399960" indent="-399960" algn="just"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Perpetua"/>
              </a:rPr>
              <a:t>Se enriquece los fundamentos de las teorías conductuales y económicas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399960" indent="-399960" algn="just"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399960" indent="-399960" algn="just"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Perpetua"/>
              </a:rPr>
              <a:t>Se integran elementos de realidades sociales y políticas diversas que generan sinergia en una actividad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399960" indent="-399960" algn="just"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399960" indent="-399960" algn="just"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Perpetua"/>
              </a:rPr>
              <a:t>Aporte al análisis prospectivo de escenarios y de sensibilidad de variables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……………………………………………………</a:t>
            </a: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4 Marcador de número de diapositiva"/>
          <p:cNvSpPr/>
          <p:nvPr/>
        </p:nvSpPr>
        <p:spPr>
          <a:xfrm>
            <a:off x="845964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D91C-688C-4DCA-AF56-2F9BB96CEB69}" type="slidenum">
              <a:rPr b="0" lang="es-ES_tradn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696464"/>
                </a:solidFill>
                <a:latin typeface="Perpetua"/>
              </a:rPr>
              <a:t>Nuevo Enfoque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914040" y="1125360"/>
            <a:ext cx="7257960" cy="52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5640" indent="-395640" algn="just"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Perpetua"/>
              </a:rPr>
              <a:t>Punto de partida para discusiones en  construcción de ingenierías financieras considerando cadenas productiva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95640" indent="-395640" algn="just"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95640" indent="-395640" algn="just"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Perpetua"/>
              </a:rPr>
              <a:t>Vínculo entre índice de resiliencia y tasas de corte de rentabilidad de inversiones por tamaño y actividad de empresa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95640" indent="-395640" algn="just"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95640" indent="-395640" algn="just"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Perpetua"/>
              </a:rPr>
              <a:t>Posibilidad de utilizar instrumentos financieros con especificaciones más precisas. Menor grado de asimetría de información y selección adversa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95640" indent="-395640" algn="just"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95640" indent="-395640" algn="just"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Perpetua"/>
              </a:rPr>
              <a:t>Desarrollo estudios de resiliencia en otros sectores económicos y organizaciones para orientar inversiones y financiamiento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95640" indent="-395640" algn="just"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95640" indent="-395640" algn="just"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Perpetua"/>
              </a:rPr>
              <a:t>Incidencia en aplicación de criterios s/ opciones reale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95640" indent="-395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3 Marcador de número de diapositiva"/>
          <p:cNvSpPr/>
          <p:nvPr/>
        </p:nvSpPr>
        <p:spPr>
          <a:xfrm>
            <a:off x="8507520" y="616572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A8CA-CBFD-4025-989F-E4FD60AF2B91}" type="slidenum">
              <a:rPr b="0" lang="es-ES_tradn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07120" y="1773360"/>
            <a:ext cx="3441600" cy="3311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96464"/>
                </a:solidFill>
                <a:latin typeface="Perpetua"/>
              </a:rPr>
              <a:t>www.libryco.com</a:t>
            </a:r>
            <a:br>
              <a:rPr sz="2800"/>
            </a:br>
            <a:r>
              <a:rPr b="0" lang="es-AR" sz="2800" spc="-1" strike="noStrike">
                <a:solidFill>
                  <a:srgbClr val="696464"/>
                </a:solidFill>
                <a:latin typeface="Perpetua"/>
              </a:rPr>
              <a:t>www.ediberun.com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s-AR" sz="2000" spc="-1" strike="noStrike">
                <a:solidFill>
                  <a:srgbClr val="696464"/>
                </a:solidFill>
                <a:latin typeface="Perpetua"/>
              </a:rPr>
              <a:t>gustavo.tapia1@gmail.com</a:t>
            </a:r>
            <a:endParaRPr b="0" lang="en-US" sz="2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7C54-499D-459D-A28A-5E1A589D8069}" type="slidenum">
              <a:rPr b="0" lang="es-ES_tradn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rcRect l="51946" t="0" r="0" b="0"/>
          <a:stretch/>
        </p:blipFill>
        <p:spPr>
          <a:xfrm>
            <a:off x="324000" y="404640"/>
            <a:ext cx="475272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3 Marcador de número de diapositiva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1373-4A87-4988-8F8D-313A1FCAFF40}" type="slidenum">
              <a:rPr b="0" lang="es-ES_tradn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6" descr="http://caballerotrueno.files.wordpress.com/2013/05/gracias_multilingue.jpg"/>
          <p:cNvPicPr/>
          <p:nvPr/>
        </p:nvPicPr>
        <p:blipFill>
          <a:blip r:embed="rId1"/>
          <a:srcRect l="0" t="10061" r="0" b="6579"/>
          <a:stretch/>
        </p:blipFill>
        <p:spPr>
          <a:xfrm>
            <a:off x="539640" y="620640"/>
            <a:ext cx="7561440" cy="3672000"/>
          </a:xfrm>
          <a:prstGeom prst="rect">
            <a:avLst/>
          </a:prstGeom>
          <a:ln w="0">
            <a:noFill/>
          </a:ln>
        </p:spPr>
      </p:pic>
      <p:pic>
        <p:nvPicPr>
          <p:cNvPr id="346" name="7 Imagen" descr=""/>
          <p:cNvPicPr/>
          <p:nvPr/>
        </p:nvPicPr>
        <p:blipFill>
          <a:blip r:embed="rId2"/>
          <a:srcRect l="2442" t="72952" r="72326" b="8635"/>
          <a:stretch/>
        </p:blipFill>
        <p:spPr>
          <a:xfrm>
            <a:off x="971640" y="4076640"/>
            <a:ext cx="2189160" cy="1724040"/>
          </a:xfrm>
          <a:prstGeom prst="rect">
            <a:avLst/>
          </a:prstGeom>
          <a:ln w="0">
            <a:noFill/>
          </a:ln>
        </p:spPr>
      </p:pic>
      <p:pic>
        <p:nvPicPr>
          <p:cNvPr id="347" name="8 Imagen" descr=""/>
          <p:cNvPicPr/>
          <p:nvPr/>
        </p:nvPicPr>
        <p:blipFill>
          <a:blip r:embed="rId3"/>
          <a:srcRect l="7694" t="37124" r="7694" b="52664"/>
          <a:stretch/>
        </p:blipFill>
        <p:spPr>
          <a:xfrm>
            <a:off x="2556000" y="5489640"/>
            <a:ext cx="3960720" cy="676080"/>
          </a:xfrm>
          <a:prstGeom prst="rect">
            <a:avLst/>
          </a:prstGeom>
          <a:ln w="0">
            <a:noFill/>
          </a:ln>
        </p:spPr>
      </p:pic>
      <p:sp>
        <p:nvSpPr>
          <p:cNvPr id="348" name="9 Rectángulo"/>
          <p:cNvSpPr/>
          <p:nvPr/>
        </p:nvSpPr>
        <p:spPr>
          <a:xfrm>
            <a:off x="3808080" y="324468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guije/ve/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4"/>
          <a:srcRect l="26092" t="0" r="26092" b="0"/>
          <a:stretch/>
        </p:blipFill>
        <p:spPr>
          <a:xfrm>
            <a:off x="2268360" y="620640"/>
            <a:ext cx="22323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696464"/>
                </a:solidFill>
                <a:latin typeface="Franklin Gothic Book"/>
              </a:rPr>
              <a:t>Se relaciona con: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d34817"/>
                </a:solidFill>
                <a:latin typeface="Perpetua"/>
              </a:rPr>
              <a:t>Conceptos asociado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59280" y="1447920"/>
            <a:ext cx="38275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d34817"/>
                </a:solidFill>
                <a:latin typeface="Perpetua"/>
              </a:rPr>
              <a:t>CRISIS - VALO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400" spc="-1" strike="noStrike">
                <a:solidFill>
                  <a:srgbClr val="000000"/>
                </a:solidFill>
                <a:latin typeface="Perpetua"/>
              </a:rPr>
              <a:t>Capacidad de recuperarse rápidamente: </a:t>
            </a:r>
            <a:r>
              <a:rPr b="0" lang="es-PR" sz="1400" spc="-1" strike="noStrike">
                <a:solidFill>
                  <a:srgbClr val="000000"/>
                </a:solidFill>
                <a:latin typeface="Perpetua"/>
              </a:rPr>
              <a:t>enfermedad – desastre natural – situaciones adversas – perturbaciones - crisis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400" spc="-1" strike="noStrike">
                <a:solidFill>
                  <a:srgbClr val="000000"/>
                </a:solidFill>
                <a:latin typeface="Perpetua"/>
              </a:rPr>
              <a:t>Cantidad de energía: </a:t>
            </a:r>
            <a:r>
              <a:rPr b="0" lang="es-PR" sz="1400" spc="-1" strike="noStrike">
                <a:solidFill>
                  <a:srgbClr val="000000"/>
                </a:solidFill>
                <a:latin typeface="Perpetua"/>
              </a:rPr>
              <a:t>absorción – irreversibilidad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400" spc="-1" strike="noStrike">
                <a:solidFill>
                  <a:srgbClr val="000000"/>
                </a:solidFill>
                <a:latin typeface="Perpetua"/>
              </a:rPr>
              <a:t>Perspectiva ecológica</a:t>
            </a:r>
            <a:r>
              <a:rPr b="0" lang="es-PR" sz="1400" spc="-1" strike="noStrike">
                <a:solidFill>
                  <a:srgbClr val="000000"/>
                </a:solidFill>
                <a:latin typeface="Perpetua"/>
              </a:rPr>
              <a:t>: equilibrio del sistema –estabilidad - previsibilidad</a:t>
            </a:r>
            <a:r>
              <a:rPr b="0" lang="es-ES" sz="14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Perpetua"/>
              </a:rPr>
              <a:t>Individuo u organización:</a:t>
            </a:r>
            <a:r>
              <a:rPr b="0" lang="es-ES" sz="1400" spc="-1" strike="noStrike">
                <a:solidFill>
                  <a:srgbClr val="000000"/>
                </a:solidFill>
                <a:latin typeface="Perpetua"/>
              </a:rPr>
              <a:t> viabilidad – desarrollo – fortalecimiento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95288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Perpetua"/>
              </a:rPr>
              <a:t>RECUPERACIÓ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Perpetua"/>
              </a:rPr>
              <a:t>FORTALECIMIENT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Perpetua"/>
              </a:rPr>
              <a:t>PREVENCIÓ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6 Marcador de número de diapositiva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A91A-EBFA-4F95-B938-DCB0A68E0066}" type="slidenum">
              <a:rPr b="0" lang="es-ES_tradn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96464"/>
                </a:solidFill>
                <a:latin typeface="Franklin Gothic Book"/>
              </a:rPr>
              <a:t>Relaciones de la resiliencia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31687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70c0"/>
                </a:solidFill>
                <a:latin typeface="Franklin Gothic Book"/>
              </a:rPr>
              <a:t>de la Física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131640" y="1557000"/>
            <a:ext cx="302436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Franklin Gothic Book"/>
              </a:rPr>
              <a:t>de la Psicología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539640" y="2644920"/>
            <a:ext cx="2519640" cy="2584440"/>
          </a:xfrm>
          <a:prstGeom prst="rect">
            <a:avLst/>
          </a:prstGeom>
          <a:ln w="0">
            <a:noFill/>
          </a:ln>
        </p:spPr>
      </p:pic>
      <p:pic>
        <p:nvPicPr>
          <p:cNvPr id="244" name="7 Marcador de contenido" descr=""/>
          <p:cNvPicPr/>
          <p:nvPr/>
        </p:nvPicPr>
        <p:blipFill>
          <a:blip r:embed="rId2"/>
          <a:srcRect l="0" t="0" r="3728" b="3517"/>
          <a:stretch/>
        </p:blipFill>
        <p:spPr>
          <a:xfrm>
            <a:off x="3348000" y="2344680"/>
            <a:ext cx="2448000" cy="2813040"/>
          </a:xfrm>
          <a:prstGeom prst="rect">
            <a:avLst/>
          </a:prstGeom>
          <a:ln w="0">
            <a:noFill/>
          </a:ln>
        </p:spPr>
      </p:pic>
      <p:sp>
        <p:nvSpPr>
          <p:cNvPr id="245" name="4 Marcador de texto"/>
          <p:cNvSpPr/>
          <p:nvPr/>
        </p:nvSpPr>
        <p:spPr>
          <a:xfrm>
            <a:off x="5651640" y="1628640"/>
            <a:ext cx="31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b050"/>
                </a:solidFill>
                <a:latin typeface="Franklin Gothic Book"/>
              </a:rPr>
              <a:t>de la Econom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"/>
          <p:cNvPicPr/>
          <p:nvPr/>
        </p:nvPicPr>
        <p:blipFill>
          <a:blip r:embed="rId3"/>
          <a:stretch/>
        </p:blipFill>
        <p:spPr>
          <a:xfrm>
            <a:off x="5940360" y="2486160"/>
            <a:ext cx="2519280" cy="3103560"/>
          </a:xfrm>
          <a:prstGeom prst="rect">
            <a:avLst/>
          </a:prstGeom>
          <a:ln w="0">
            <a:noFill/>
          </a:ln>
        </p:spPr>
      </p:pic>
      <p:sp>
        <p:nvSpPr>
          <p:cNvPr id="247" name="8 Marcador de número de diapositiva"/>
          <p:cNvSpPr/>
          <p:nvPr/>
        </p:nvSpPr>
        <p:spPr>
          <a:xfrm>
            <a:off x="850752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14C5-874E-4853-BC05-F34EE8A292E9}" type="slidenum">
              <a:rPr b="0" lang="es-ES_tradn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696464"/>
                </a:solidFill>
                <a:latin typeface="Perpetua"/>
              </a:rPr>
              <a:t>Aspectos de la Física y la Psicología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305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70c0"/>
                </a:solidFill>
                <a:latin typeface="Perpetua"/>
              </a:rPr>
              <a:t>asociadas a la Físic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2247840"/>
            <a:ext cx="373392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Perpetua"/>
              </a:rPr>
              <a:t>Explicación del contexto y del potencial de cambio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2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Perpetua"/>
              </a:rPr>
              <a:t>Dinámica con diferentes equilibrios y multiestabilidad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2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Perpetua"/>
              </a:rPr>
              <a:t>Capacidad de adaptación y persistencia del sistema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2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Perpetua"/>
              </a:rPr>
              <a:t>Factores y análisis sistémico para diferentes tamaños y velocidades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2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Perpetua"/>
              </a:rPr>
              <a:t>Panarquía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2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Perpetua"/>
              </a:rPr>
              <a:t>Causalidad interna y nuevas trayectorias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6 Marcador de número de diapositiva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2B8C-E43B-4B80-A88D-C5FE1183D7DD}" type="slidenum">
              <a:rPr b="0" lang="es-ES_tradn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54440" y="220644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Perpetua"/>
              </a:rPr>
              <a:t>Proceso decisorio. Necesidad y empatía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Perpetua"/>
              </a:rPr>
              <a:t>Resistencia al estrés e inmunización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Perpetua"/>
              </a:rPr>
              <a:t>Creatividad, flexibilidad y pro actividad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Perpetua"/>
              </a:rPr>
              <a:t>Comunicación efectiva y habilidades para resolver 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Perpetua"/>
              </a:rPr>
              <a:t>Aprendizaje del éxito y del fracaso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Perpetua"/>
              </a:rPr>
              <a:t>Responsabilidad social y valores sensatos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4440" y="17305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3000"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Perpetua"/>
              </a:rPr>
              <a:t>asociadas a la Psicologí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696464"/>
                </a:solidFill>
                <a:latin typeface="Perpetua"/>
              </a:rPr>
              <a:t>Emergente económico – Efectos en las Organizacione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d34817"/>
                </a:solidFill>
                <a:latin typeface="Franklin Gothic Book"/>
              </a:rPr>
              <a:t>Asociados a la Economí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d34817"/>
                </a:solidFill>
                <a:latin typeface="Franklin Gothic Book"/>
              </a:rPr>
              <a:t>En las Organizacion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Perpetua"/>
              </a:rPr>
              <a:t>Estructura de las variables macroeconómicas ante catástrofes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Perpetua"/>
              </a:rPr>
              <a:t>Efectos en mediano y largo plazo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Perpetua"/>
              </a:rPr>
              <a:t>Políticas públicas y estrategias sectoriales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Perpetua"/>
              </a:rPr>
              <a:t>Exposición de riesgos y opciones ante incertidumbres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Perpetua"/>
              </a:rPr>
              <a:t>Calidad de vida y responsabilidad social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Perpetua"/>
              </a:rPr>
              <a:t>Garantizar la sustentabilidad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Perpetua"/>
              </a:rPr>
              <a:t>Valor del sistema: capacidad de mantener flujo de bienes y servicios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95288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Perpetua"/>
              </a:rPr>
              <a:t>Resultados deseables en medio de: adversidad, tensión y barreras a la adaptación o el desarrollo. 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Perpetua"/>
              </a:rPr>
              <a:t>Ajustes (positivo) en condiciones difíciles para surgir fortalecida y con más recursos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Conciencia situacional - Misión              Planificación y criticidad de operaciones        Priorización de vulnerabilidades y Simulación de situaciones adversas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Ambiente abiertas (entorno)  y flexibles (preocupaciones)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Perpetua"/>
              </a:rPr>
              <a:t>Cambia atención de objetivos y estrategias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6 Marcador de número de diapositiva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CEE8-A9A9-48DC-865E-6999CBF1E3AC}" type="slidenum">
              <a:rPr b="0" lang="es-ES_tradn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7 Flecha abajo"/>
          <p:cNvSpPr/>
          <p:nvPr/>
        </p:nvSpPr>
        <p:spPr>
          <a:xfrm>
            <a:off x="6516720" y="5230800"/>
            <a:ext cx="647640" cy="358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55640" y="25524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696464"/>
                </a:solidFill>
                <a:latin typeface="Perpetua"/>
              </a:rPr>
              <a:t>Algunos tipos de equilibrio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2" name="4 Marcador de número de diapositiva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F85F-BDDD-4BC0-AC3E-731A233E1D6C}" type="slidenum">
              <a:rPr b="0" lang="es-ES_tradn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3749760" cy="41054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933800" y="1773360"/>
            <a:ext cx="37497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7772400" cy="797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696464"/>
                </a:solidFill>
                <a:latin typeface="Franklin Gothic Book"/>
              </a:rPr>
              <a:t>Condiciones, variables y fines. </a:t>
            </a:r>
            <a:br>
              <a:rPr sz="2400"/>
            </a:br>
            <a:r>
              <a:rPr b="1" lang="es-AR" sz="2400" spc="-1" strike="noStrike">
                <a:solidFill>
                  <a:srgbClr val="696464"/>
                </a:solidFill>
                <a:latin typeface="Franklin Gothic Book"/>
              </a:rPr>
              <a:t>Aspectos financieros contemplados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79280" y="1125360"/>
            <a:ext cx="4105440" cy="46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Perpetua"/>
              </a:rPr>
              <a:t>Sobrevivir para luego batallar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Perpetua"/>
              </a:rPr>
              <a:t>Nuevas oportunidades luego de crisis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Perpetua"/>
              </a:rPr>
              <a:t>    ………………………………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Perpetua"/>
              </a:rPr>
              <a:t>Preocupación, análisis y anticipación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Perpetua"/>
              </a:rPr>
              <a:t>Estrategia ofensiva en innovación / equipamiento y rediseño – calidad productos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Perpetua"/>
              </a:rPr>
              <a:t>Mejoramiento (o conservación) y calificación de mano de obra.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003640" y="1376280"/>
            <a:ext cx="3679920" cy="29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Perpetua"/>
              </a:rPr>
              <a:t>RENTABILIDAD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Perpetua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Perpetua"/>
              </a:rPr>
              <a:t>CAPACIDAD PRODUCTIVA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5 Flecha derecha"/>
          <p:cNvSpPr/>
          <p:nvPr/>
        </p:nvSpPr>
        <p:spPr>
          <a:xfrm rot="2130600">
            <a:off x="4008240" y="1544760"/>
            <a:ext cx="60948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6 Flecha derecha"/>
          <p:cNvSpPr/>
          <p:nvPr/>
        </p:nvSpPr>
        <p:spPr>
          <a:xfrm rot="19358400">
            <a:off x="4025880" y="2843280"/>
            <a:ext cx="604800" cy="4842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7 Abrir llave"/>
          <p:cNvSpPr/>
          <p:nvPr/>
        </p:nvSpPr>
        <p:spPr>
          <a:xfrm>
            <a:off x="4788000" y="1125360"/>
            <a:ext cx="360360" cy="3311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3311640"/>
              <a:gd name="textAreaBottom" fmla="*/ 3302280 h 331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"/>
                  <a:pt x="10800" y="196"/>
                </a:cubicBezTo>
                <a:lnTo>
                  <a:pt x="10800" y="10604"/>
                </a:lnTo>
                <a:cubicBezTo>
                  <a:pt x="10800" y="10702"/>
                  <a:pt x="5400" y="10800"/>
                  <a:pt x="0" y="10800"/>
                </a:cubicBezTo>
                <a:cubicBezTo>
                  <a:pt x="5400" y="10800"/>
                  <a:pt x="10800" y="10898"/>
                  <a:pt x="10800" y="10996"/>
                </a:cubicBezTo>
                <a:lnTo>
                  <a:pt x="10800" y="21404"/>
                </a:lnTo>
                <a:cubicBezTo>
                  <a:pt x="10800" y="215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10 Marcador de número de diapositiva"/>
          <p:cNvSpPr/>
          <p:nvPr/>
        </p:nvSpPr>
        <p:spPr>
          <a:xfrm>
            <a:off x="8459640" y="616572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ADA5-9850-477A-B609-D7471AFACD0F}" type="slidenum">
              <a:rPr b="0" lang="es-ES_tradn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696464"/>
                </a:solidFill>
                <a:latin typeface="Franklin Gothic Book"/>
              </a:rPr>
              <a:t>Aprendizaje y cambio organizacional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DD2F-7F5E-44ED-A74C-4C83ED0A8D0C}" type="slidenum">
              <a:rPr b="0" lang="es-ES_tradn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87716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7:38:09Z</dcterms:created>
  <dc:creator>WinuE</dc:creator>
  <dc:description/>
  <dc:language>en-US</dc:language>
  <cp:lastModifiedBy>.</cp:lastModifiedBy>
  <dcterms:modified xsi:type="dcterms:W3CDTF">2015-09-02T23:07:52Z</dcterms:modified>
  <cp:revision>225</cp:revision>
  <dc:subject/>
  <dc:title>Asignatura: Estados Contables</dc:title>
</cp:coreProperties>
</file>